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B38-A06D-4CD3-ADCE-29D67520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D6F-9B29-45B2-928E-2F8690CA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B76-6469-45D7-BE8D-1AC8CA0E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EDC-0A15-4EA5-AC24-4871EA17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5F05-2955-4127-A5CF-2C6F5E7C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1584-65FE-4053-AE5D-760AF0E4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208-A629-4351-86EE-906A5ED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34E3-C35F-444F-B9C7-A930ED52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C74E-A6B1-4B30-B26E-4D23E1BC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C75F-ADC0-4F35-932E-589373B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DAA-7D27-4C66-B47F-8661DFB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4E3-1EC9-4DA2-BFBA-8A74A2DE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77E3-E59F-4659-93BA-547CDB5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4C60-44F6-4DBE-92F9-927655C2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8F0-AA4C-48D7-AC20-DF21664B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4D01-F99E-4669-91D6-F3EB5D47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2469-F42F-4F4C-88F9-711B858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7C8-0E10-4A08-B01E-2100674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B34-0FDF-4D1B-B84B-F8B7759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6734-DA1D-4FA4-8A41-0865C36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DA7-7E78-4A7B-A3B6-76A9E554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0A2-2359-4F3D-B123-CF1F67D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8CE-EEE9-49DD-ADA5-0B3B9CA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1C1-0857-45EC-886C-559FE3F9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E16-1E08-4843-9D36-1329C542797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394-9C68-483A-AA41-3112FD89674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第二节  位移和时间的关系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教学要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理解匀速直线运动的概念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学会用图象研究物理量之间的关系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知道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-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图象的物理意义，懂得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图线斜率判断物体的快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592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B97A-1C92-4BC1-9D3A-17F7DC911A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457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72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题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， Ⅰ、Ⅱ分别做什么直线运动？哪个物体运动较快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59436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43792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610480" y="5943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105520" y="4723920"/>
            <a:ext cx="2057400" cy="12193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05520" y="3886200"/>
            <a:ext cx="2057400" cy="2057400"/>
          </a:xfrm>
          <a:prstGeom prst="line">
            <a:avLst/>
          </a:prstGeom>
          <a:ln w="9360">
            <a:solidFill>
              <a:srgbClr val="e00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105160" y="472428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80560" y="449568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31880" y="365760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64832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657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199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5943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172200" y="58672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029200" y="53341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4724280"/>
            <a:ext cx="0" cy="1219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4480" y="5715000"/>
            <a:ext cx="3038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29400" y="5791320"/>
            <a:ext cx="7617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15200" y="54864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6520" y="556272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1447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、Ⅱ都做匀速直线运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133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斜率为：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g α=20/4=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74320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斜率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g β=-tg(180</a:t>
            </a:r>
            <a:r>
              <a:rPr b="0" lang="zh-CN" sz="24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- β)=-30/4=-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0384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斜率的绝对值大于Ⅰ的斜率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示 Ⅱ运动较快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305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斜率为负值，表示两物体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方向相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818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F212-744A-4227-B9C4-E087079B7AD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三、变速直线运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6019920"/>
            <a:ext cx="3810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267080" y="29714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1280" y="2666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5715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962520" y="5791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4495680"/>
            <a:ext cx="2743200" cy="1524240"/>
          </a:xfrm>
          <a:custGeom>
            <a:avLst/>
            <a:gdLst/>
            <a:ahLst/>
            <a:rect l="l" t="t" r="r" b="b"/>
            <a:pathLst>
              <a:path w="1776" h="816">
                <a:moveTo>
                  <a:pt x="0" y="816"/>
                </a:moveTo>
                <a:cubicBezTo>
                  <a:pt x="128" y="680"/>
                  <a:pt x="256" y="544"/>
                  <a:pt x="432" y="432"/>
                </a:cubicBezTo>
                <a:cubicBezTo>
                  <a:pt x="608" y="320"/>
                  <a:pt x="832" y="216"/>
                  <a:pt x="1056" y="144"/>
                </a:cubicBezTo>
                <a:cubicBezTo>
                  <a:pt x="1280" y="72"/>
                  <a:pt x="1656" y="24"/>
                  <a:pt x="1776" y="0"/>
                </a:cubicBez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52880" y="5257800"/>
            <a:ext cx="0" cy="762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76920"/>
            <a:ext cx="0" cy="1143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64832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266720" y="5257800"/>
            <a:ext cx="6858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267080" y="4876920"/>
            <a:ext cx="1371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266720" y="4648320"/>
            <a:ext cx="2057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5029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464832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42670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5943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59436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79760" y="594360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2296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4B1-9835-4808-8AC3-D1DCA22EF3CE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9144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物体在一条直线上运动，如果在相等的时间里位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不相等，这种运动叫变速直线运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2133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变速直线运动的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s-t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图象不是直线而是曲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04920" y="68580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复习本节课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思考练习二第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题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把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、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做在练习本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10280" y="5638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1" action="ppaction://hlinksldjump"/>
              </a:rPr>
              <a:t>返回第一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77C5-6609-4858-A021-D4733FF12431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57200" y="609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、位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2R=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143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路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=3.14*R=3.1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3581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" y="2286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大小相等，方向不同，位移不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3886200"/>
            <a:ext cx="83818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初为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末，则应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；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s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内位移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      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位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移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√2R= √2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方向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指向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238880" y="4114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10280" y="556272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70160" y="2916360"/>
            <a:ext cx="44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0348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1676520"/>
            <a:ext cx="1981080" cy="1981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914400"/>
            <a:ext cx="525780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质点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点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   B     C      D     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绕一周，已知半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=1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质点运动一周的时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=4s,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且运动快慢不变，问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质点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      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运动过程中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移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1" action="ppaction://hlinksldjump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路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2" action="ppaction://hlinksldjump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质点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       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       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运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过程中位移相同吗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3" action="ppaction://hlinksldjump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物体在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初的位置在何处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4" action="ppaction://hlinksldjump"/>
              </a:rPr>
              <a:t>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内的位移大小和方向如何</a:t>
            </a:r>
            <a:r>
              <a:rPr b="0" lang="zh-CN" sz="2400" spc="-1" strike="noStrike" u="sng">
                <a:solidFill>
                  <a:srgbClr val="f98d43"/>
                </a:solidFill>
                <a:uFillTx/>
                <a:latin typeface="Times New Roman"/>
                <a:hlinkClick r:id="rId5" action="ppaction://hlinksldjump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1143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1143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19720" y="1143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143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582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514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438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4038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2743200"/>
            <a:ext cx="190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676520"/>
            <a:ext cx="0" cy="1981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2666880"/>
            <a:ext cx="152640" cy="152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6002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666880"/>
            <a:ext cx="152280" cy="152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A56F-9D96-4BDE-BA99-E08213489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3049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33520"/>
            <a:ext cx="4495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问：甲、乙两质点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两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点出发，沿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到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两点，甲、乙两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点会相遇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312408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1371600"/>
            <a:ext cx="0" cy="3505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12193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76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610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3124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29400" y="3048120"/>
            <a:ext cx="152280" cy="1522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114800"/>
            <a:ext cx="4190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所以，研究机械运动受时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我们不仅要关心位置变化，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要关心位移和时间的关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9718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答：不一定，只有同一时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经过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点才会相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29600" y="6324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50B6-5831-4977-BE76-EED35A6CE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-228600" y="1295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一辆汽车在平直的公路上运动，测定结果如下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981080"/>
          <a:ext cx="7848360" cy="1143000"/>
        </p:xfrm>
        <a:graphic>
          <a:graphicData uri="http://schemas.openxmlformats.org/drawingml/2006/table">
            <a:tbl>
              <a:tblPr/>
              <a:tblGrid>
                <a:gridCol w="1676160"/>
                <a:gridCol w="1295640"/>
                <a:gridCol w="1218960"/>
                <a:gridCol w="1219320"/>
                <a:gridCol w="1219320"/>
                <a:gridCol w="12189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/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位移</a:t>
                      </a: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/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33520" y="28954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8954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505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分析上表可得出些什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规律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4038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位移随时间的增加而增加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53053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汽车的位移随时间均匀增加，这种运动在物理学上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叫做匀速直线运动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05920" y="6400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23FC-1EB3-4705-BFB7-3FD385CEF3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4572000"/>
            <a:ext cx="44956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大约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秒内的位移都是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第二节 位移和时间的关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、匀速直线运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6172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移—时间图象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—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7913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81080" y="26665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638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81080" y="3429000"/>
            <a:ext cx="3048120" cy="23623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541008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952880"/>
            <a:ext cx="10670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419720"/>
            <a:ext cx="17528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3886200"/>
            <a:ext cx="24386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54100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4952880"/>
            <a:ext cx="0" cy="838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41972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388620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3809880"/>
            <a:ext cx="152280" cy="152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4724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6172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移—时间图象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—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41F7-440B-47D6-8354-4CDD8A3F8B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133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特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位移与时间成正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9907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</a:rPr>
              <a:t>定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物体在一条直线上运动，如果在相等的时间里位移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相等，这种运动就叫做匀速直线运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二、位移—时间图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579132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81080" y="2666520"/>
            <a:ext cx="0" cy="3124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5638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15000" y="5562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590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981080" y="3429000"/>
            <a:ext cx="3048120" cy="23623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5410080"/>
            <a:ext cx="4572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952880"/>
            <a:ext cx="10670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4419720"/>
            <a:ext cx="17528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3886200"/>
            <a:ext cx="24386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5410080"/>
            <a:ext cx="0" cy="3812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952880"/>
            <a:ext cx="0" cy="838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41972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3886200"/>
            <a:ext cx="0" cy="19051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43400" y="3809880"/>
            <a:ext cx="152280" cy="152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3434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4191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472428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0" y="5791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579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791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61722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位移—时间图象或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—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809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05920" y="64008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45820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CB0D-3E14-4B80-A3D9-77DBD406F1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914400"/>
            <a:ext cx="8686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-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中某个点的物理意义是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表示运动物体在某一时刻所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处的位置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1905120"/>
            <a:ext cx="853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-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的特点：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匀速直线运动的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s-t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图象是一条直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360216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641520"/>
            <a:ext cx="63244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果初始位置不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，即初始位置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=100;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会是什么样子的呢  ？  若初始时刻不为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又会是这样的图象呢？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895480" y="30481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5105520"/>
            <a:ext cx="4038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5105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96252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434340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6483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191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5029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769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486400" y="3200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14600" y="2590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63248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038480" y="3581280"/>
            <a:ext cx="274320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3733920"/>
            <a:ext cx="0" cy="13716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3352680"/>
            <a:ext cx="0" cy="1828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114800"/>
            <a:ext cx="0" cy="990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3657600"/>
            <a:ext cx="0" cy="1447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895120" y="4724280"/>
            <a:ext cx="17528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95480" y="441972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895120" y="4038480"/>
            <a:ext cx="30481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895480" y="3733920"/>
            <a:ext cx="36576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396252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3657600"/>
            <a:ext cx="15228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1480" y="3276720"/>
            <a:ext cx="152640" cy="152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419720"/>
            <a:ext cx="0" cy="685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038480" y="4038480"/>
            <a:ext cx="0" cy="10670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971800" y="3276360"/>
            <a:ext cx="251460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895480" y="3429000"/>
            <a:ext cx="23623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95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60680" y="342900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8476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262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30492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中Ⅰ、Ⅱ、Ⅲ表示三物体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-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象，它们是匀速直线运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吗？ Ⅰ、Ⅱ、Ⅲ有何区别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571500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952880" y="2133720"/>
            <a:ext cx="0" cy="358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188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952880" y="3580920"/>
            <a:ext cx="2590920" cy="2133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3048120"/>
            <a:ext cx="2057400" cy="1676160"/>
          </a:xfrm>
          <a:prstGeom prst="line">
            <a:avLst/>
          </a:prstGeom>
          <a:ln w="936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019920" y="4114440"/>
            <a:ext cx="1981080" cy="1600200"/>
          </a:xfrm>
          <a:prstGeom prst="line">
            <a:avLst/>
          </a:prstGeom>
          <a:ln w="9360">
            <a:solidFill>
              <a:srgbClr val="e00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28195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41920" y="32767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31880" y="38862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4956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5638680"/>
            <a:ext cx="10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971800"/>
            <a:ext cx="4724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示：物体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刻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出发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03848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示：物体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刻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坐标原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出发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181480"/>
            <a:ext cx="46483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Ⅲ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示：物体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=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刻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坐标原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=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处出发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2362320"/>
            <a:ext cx="4343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匀速直线运动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18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C1D6-B13E-4DEA-B0BF-109A540AFF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609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09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例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如图所示，Ⅰ、Ⅱ运动有什么不同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24280" y="5867280"/>
            <a:ext cx="3886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4724280" y="220968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3848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/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0592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724280" y="4114800"/>
            <a:ext cx="3505320" cy="1752480"/>
          </a:xfrm>
          <a:prstGeom prst="line">
            <a:avLst/>
          </a:prstGeom>
          <a:ln w="9360">
            <a:solidFill>
              <a:srgbClr val="e004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724280" y="2743200"/>
            <a:ext cx="2210040" cy="3124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51960" y="2438280"/>
            <a:ext cx="3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80000" y="380988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48520" y="3733920"/>
            <a:ext cx="0" cy="2133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38098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724280" y="3733920"/>
            <a:ext cx="1524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4724280" y="5105520"/>
            <a:ext cx="152424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350532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8769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21337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答：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Ⅰ的斜率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gt; Ⅱ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斜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gβ &gt; tg α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3240" y="5716440"/>
            <a:ext cx="151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0242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02427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960" y="5259960"/>
            <a:ext cx="608760" cy="1067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76" y="147"/>
                </a:moveTo>
                <a:arcTo wR="10800" hR="10800" stAng="-4832261" swAng="5358781"/>
                <a:lnTo>
                  <a:pt x="10800" y="10800"/>
                </a:lnTo>
                <a:close/>
              </a:path>
              <a:path fill="none" w="21600" h="21600">
                <a:moveTo>
                  <a:pt x="12576" y="147"/>
                </a:moveTo>
                <a:arcTo wR="10800" hR="10800" stAng="-4832261" swAng="5358781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3000" y="5486400"/>
            <a:ext cx="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4120" y="533412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5812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论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斜率的大小反映了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体运动的快慢，斜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越大运动越快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25780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9ce157"/>
                </a:solidFill>
                <a:latin typeface="Times New Roman"/>
              </a:rPr>
              <a:t>、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s-t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图象中，图线斜率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越大，运动越快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636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3405-AB93-4050-AB84-9D09E3C69A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6:12:46Z</dcterms:created>
  <dc:creator>下关一中</dc:creator>
  <dc:description/>
  <dc:language>en-US</dc:language>
  <cp:lastModifiedBy>彭小明</cp:lastModifiedBy>
  <dcterms:modified xsi:type="dcterms:W3CDTF">2001-09-27T09:05:50Z</dcterms:modified>
  <cp:revision>23</cp:revision>
  <dc:subject/>
  <dc:title> 第二节  位移和时间的关系</dc:title>
</cp:coreProperties>
</file>