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13BB-A4F3-47ED-AA86-C02010B1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503-454D-402E-B5E6-15338CC7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0F3-3A2B-486D-90EB-0E4AE21A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4E9-F5F3-45F7-8DCB-23618B2E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CEFB-0F5A-4EF8-8318-DC257437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4F4E-0F9E-4F6E-A158-E0DC3730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59EC-0D2C-4A1A-860B-FC087F47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4AB0-297C-4084-8443-D176800D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A802-04CC-44F5-B71D-2D6DF12D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EF67-1F9D-4CEE-8C67-5DD6245A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73C7-D33B-4626-A907-71D34226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078-409C-4726-8F31-7E503A63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90CA-7CF4-4797-BEE2-5DD1F073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70FD-38F6-4570-B558-756E6B66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75E3-FBC8-406C-813C-F5DD97EB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AB24-9E1D-4021-8FFB-1E06196C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20E5-0F5A-4E19-86E8-93C7A2A6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1879F-63C0-488F-9F07-439F0A46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71D34-76D4-485D-A617-EB7C505D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D24E0-D8B1-4A02-80BC-FFA2BFF2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90E32-1B2A-4B21-B0A6-1F235423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D0B0A-1B41-49BD-9EDC-5DAF4ED1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C31-0CC6-488F-A568-51A5E013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2ED5C-A22D-4551-B501-8DDBBDBF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50830-8DC4-4CB7-BF2A-39061B7B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7F77B-AD61-4BA0-B33E-C45FA7AF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D2B0D-32B9-4C78-B3EB-E1E46187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D1AD7-AA53-4FB1-8423-B2314CC1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24932-0DCC-4F48-A026-388F550A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46C3-268A-45D2-A908-F4C9E6C4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11A-5307-45AE-96CB-F49521E6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7AA-618D-445D-A275-1046BBCD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A92-FCCC-4EA6-8E02-9959C438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30CB-836D-494D-8B5A-5F0F1BA8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BDCA-3C33-4503-97BE-E1944390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480-3FAA-4A1A-B932-A3ACB728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3242-30F5-445A-91C0-02A35D217371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7AFD-4A18-4F83-AEB2-590EE6C0BDEA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20A8-73C3-4EF8-AB86-079027C18827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4286160" y="1192320"/>
            <a:ext cx="3745080" cy="718920"/>
          </a:xfrm>
          <a:prstGeom prst="wedgeRoundRectCallout">
            <a:avLst>
              <a:gd name="adj1" fmla="val -19351"/>
              <a:gd name="adj2" fmla="val 98342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物质是有什么组成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2262240" y="2832120"/>
            <a:ext cx="3362400" cy="1770120"/>
          </a:xfrm>
          <a:prstGeom prst="borderCallout2">
            <a:avLst>
              <a:gd name="adj1" fmla="val 18750"/>
              <a:gd name="adj2" fmla="val -8333"/>
              <a:gd name="adj3" fmla="val 7939"/>
              <a:gd name="adj4" fmla="val 106180"/>
              <a:gd name="adj5" fmla="val -42337"/>
              <a:gd name="adj6" fmla="val 1079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古希腊人认为宇宙万物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水、火、土、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成，称为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四元素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6527880" y="3908520"/>
            <a:ext cx="3108240" cy="1784160"/>
          </a:xfrm>
          <a:prstGeom prst="borderCallout2">
            <a:avLst>
              <a:gd name="adj1" fmla="val 18750"/>
              <a:gd name="adj2" fmla="val -8333"/>
              <a:gd name="adj3" fmla="val 7930"/>
              <a:gd name="adj4" fmla="val -5250"/>
              <a:gd name="adj5" fmla="val -103314"/>
              <a:gd name="adj6" fmla="val -8699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的祖先认为宇宙万物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金、木、水、火、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成，称为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五行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149560" y="8301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来，人们认识到若物质无限的分下去，所得颗粒愈来愈小，小到这种颗粒能保持化学性质不变为止，通常所说的物质就是由这种颗粒构成的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意大利物理学家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阿伏家德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个把这种颗粒命名为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3014640" y="37101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现在，人们认为物质是由分子或原子组成的，现代科技可以使人们观察到构成物质的分子或原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146"/>
          <p:cNvPicPr/>
          <p:nvPr/>
        </p:nvPicPr>
        <p:blipFill>
          <a:blip r:embed="rId1"/>
          <a:stretch/>
        </p:blipFill>
        <p:spPr>
          <a:xfrm>
            <a:off x="1805040" y="590400"/>
            <a:ext cx="4427640" cy="4077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2921040" y="5099040"/>
            <a:ext cx="2592360" cy="9471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大后的硅表面的原子图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DNA分子"/>
          <p:cNvPicPr/>
          <p:nvPr/>
        </p:nvPicPr>
        <p:blipFill>
          <a:blip r:embed="rId2"/>
          <a:stretch/>
        </p:blipFill>
        <p:spPr>
          <a:xfrm>
            <a:off x="6512040" y="722160"/>
            <a:ext cx="2508120" cy="54007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147240" y="1908000"/>
            <a:ext cx="1239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大分子结构示意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960560" y="8668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氢分子是最小的分子，其尺度相当于一根头发丝的直径的十万分之一，质量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-27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463840" y="2019240"/>
            <a:ext cx="6912000" cy="9471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水的分子的直径大约是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4×10</a:t>
            </a:r>
            <a:r>
              <a:rPr b="1" lang="en-US" sz="2800" spc="-1" strike="noStrike" baseline="30000">
                <a:solidFill>
                  <a:srgbClr val="0033cc"/>
                </a:solidFill>
                <a:latin typeface="宋体"/>
              </a:rPr>
              <a:t>-10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m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1cm</a:t>
            </a:r>
            <a:r>
              <a:rPr b="1" lang="en-US" sz="2800" spc="-1" strike="noStrike" baseline="30000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的水中就会有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3.34×10</a:t>
            </a:r>
            <a:r>
              <a:rPr b="1" lang="en-US" sz="2800" spc="-1" strike="noStrike" baseline="30000">
                <a:solidFill>
                  <a:srgbClr val="0033cc"/>
                </a:solidFill>
                <a:latin typeface="宋体"/>
              </a:rPr>
              <a:t>22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个水分子，一个水分子的质量只有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3×10</a:t>
            </a:r>
            <a:r>
              <a:rPr b="1" lang="en-US" sz="2800" spc="-1" strike="noStrike" baseline="30000">
                <a:solidFill>
                  <a:srgbClr val="0033cc"/>
                </a:solidFill>
                <a:latin typeface="宋体"/>
              </a:rPr>
              <a:t>-26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kg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752560" y="3962520"/>
            <a:ext cx="6480360" cy="947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各种分子的直径都只有几万分之一个纳米左右，据估计一只蚂蚁一口水就吞下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2×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个水分子，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万个氧分子依次排列起来，总长仅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0.03mm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013120" y="2082960"/>
            <a:ext cx="78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是组成物质的最小微粒吗？还可以分割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075040" y="373860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不是组成物质的最小微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还可以再分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1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英国科学家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道尔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证明了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原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存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的分子由单个原子组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叫做“单原子分子”；绝大多数分子由多个原子组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叫“多原子分子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2128680" y="663480"/>
            <a:ext cx="2757600" cy="5814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微观粒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ShockwaveFlash1"/>
          <p:cNvGraphicFramePr/>
          <p:nvPr/>
        </p:nvGraphicFramePr>
        <p:xfrm>
          <a:off x="2571840" y="1409760"/>
          <a:ext cx="6873840" cy="48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1840" y="1409760"/>
                    <a:ext cx="6873840" cy="48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ShockwaveFlash1"/>
          <p:cNvGraphicFramePr/>
          <p:nvPr/>
        </p:nvGraphicFramePr>
        <p:xfrm>
          <a:off x="2468520" y="1521000"/>
          <a:ext cx="6867720" cy="49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8520" y="1521000"/>
                    <a:ext cx="6867720" cy="49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789200" y="1266840"/>
            <a:ext cx="85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阅读下列有关人类探索微观世界历程的短文，填空并回答相关问题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774800" y="221616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汤姆生通过阴极射线管实验发现了（　　　　）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789200" y="3147840"/>
            <a:ext cx="862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初（　　　）通过粒子实验提出了原子的核式结构模型：原子的中心有一个带（　）电的（　    ），带（  　）电的（　　）绕（　　　  ）高速旋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951200" y="4859280"/>
            <a:ext cx="87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科学家们还相继发现了原子核内的质子和（　　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919160" y="539100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到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中叶又提出了质子和中子都是由更小的（　　）粒子组成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408400" y="263520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电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062240" y="3141720"/>
            <a:ext cx="17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卢瑟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6740640" y="40194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电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2244600" y="397980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原子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7480440" y="3564000"/>
            <a:ext cx="7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8602560" y="3989520"/>
            <a:ext cx="15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原子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2604960" y="57880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夸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4621320" y="4006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负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9237600" y="4815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中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WordArt 2"/>
          <p:cNvSpPr txBox="1"/>
          <p:nvPr/>
        </p:nvSpPr>
        <p:spPr>
          <a:xfrm>
            <a:off x="1854360" y="612720"/>
            <a:ext cx="220788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+mn-ea"/>
              </a:rPr>
              <a:t>随堂练习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+mn-ea"/>
              <a:ea typeface="+mn-e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WordArt 3" descr=""/>
          <p:cNvPicPr/>
          <p:nvPr/>
        </p:nvPicPr>
        <p:blipFill>
          <a:blip r:embed="rId1"/>
          <a:stretch/>
        </p:blipFill>
        <p:spPr>
          <a:xfrm>
            <a:off x="2809800" y="1822320"/>
            <a:ext cx="6139080" cy="25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39960" y="647640"/>
            <a:ext cx="23875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+mn-ea"/>
              </a:rPr>
              <a:t>情境引入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+mn-ea"/>
              <a:ea typeface="+mn-ea"/>
            </a:endParaRPr>
          </a:p>
        </p:txBody>
      </p:sp>
      <p:pic>
        <p:nvPicPr>
          <p:cNvPr id="163" name="Picture 2" descr="3"/>
          <p:cNvPicPr/>
          <p:nvPr/>
        </p:nvPicPr>
        <p:blipFill>
          <a:blip r:embed="rId1"/>
          <a:stretch/>
        </p:blipFill>
        <p:spPr>
          <a:xfrm>
            <a:off x="4672080" y="1681200"/>
            <a:ext cx="289872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2001960" y="633240"/>
            <a:ext cx="78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尘土、树木、水、火焰、空气、星辰，我们周围的一切，包括有生命的和无生命的，都是物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793960" y="16858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Comic Sans MS"/>
              </a:rPr>
              <a:t>从无限的宇宙到微小的基本粒子，物质以各种各样的形态展现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922400" y="2590920"/>
            <a:ext cx="70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仰望天空，群星闪烁。宇宙到底有多大呢？人们还在探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859040" y="355752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在我们的周围，有潺潺的流水，美丽的鲜花，飞翔的小鸟，嬉闹的人群。这便是人们熟悉的世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075040" y="47829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在人们不能直接看到的世界里，同样奥秘无穷。那里有细胞、病毒、分子、原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科学家的研究已进入这样的微观世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030108m51"/>
          <p:cNvPicPr/>
          <p:nvPr/>
        </p:nvPicPr>
        <p:blipFill>
          <a:blip r:embed="rId1"/>
          <a:stretch/>
        </p:blipFill>
        <p:spPr>
          <a:xfrm>
            <a:off x="3486240" y="2168640"/>
            <a:ext cx="5506920" cy="3686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27040" y="5899320"/>
            <a:ext cx="748476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</a:rPr>
              <a:t>浩瀚星空　茫茫宇宙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WordArt 2"/>
          <p:cNvSpPr txBox="1"/>
          <p:nvPr/>
        </p:nvSpPr>
        <p:spPr>
          <a:xfrm>
            <a:off x="1870200" y="566640"/>
            <a:ext cx="22921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+mn-ea"/>
              </a:rPr>
              <a:t>新知探究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+mn-ea"/>
              <a:ea typeface="+mn-ea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2025720" y="1371600"/>
            <a:ext cx="3111480" cy="5814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自然的尺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AI7IBK3"/>
          <p:cNvPicPr/>
          <p:nvPr/>
        </p:nvPicPr>
        <p:blipFill>
          <a:blip r:embed="rId1"/>
          <a:stretch/>
        </p:blipFill>
        <p:spPr>
          <a:xfrm>
            <a:off x="1863720" y="1725480"/>
            <a:ext cx="4056120" cy="4272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it2"/>
          <p:cNvPicPr/>
          <p:nvPr/>
        </p:nvPicPr>
        <p:blipFill>
          <a:blip r:embed="rId2"/>
          <a:stretch/>
        </p:blipFill>
        <p:spPr>
          <a:xfrm>
            <a:off x="6377040" y="1536840"/>
            <a:ext cx="3552840" cy="42051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51000" y="636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 Light"/>
              </a:rPr>
              <a:t>细胞　                      　　　　病毒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sars2"/>
          <p:cNvPicPr/>
          <p:nvPr/>
        </p:nvPicPr>
        <p:blipFill>
          <a:blip r:embed="rId1"/>
          <a:stretch/>
        </p:blipFill>
        <p:spPr>
          <a:xfrm>
            <a:off x="2365200" y="1711440"/>
            <a:ext cx="3449880" cy="3819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sars1"/>
          <p:cNvPicPr/>
          <p:nvPr/>
        </p:nvPicPr>
        <p:blipFill>
          <a:blip r:embed="rId2"/>
          <a:stretch/>
        </p:blipFill>
        <p:spPr>
          <a:xfrm>
            <a:off x="6480000" y="1976400"/>
            <a:ext cx="3287880" cy="35542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096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非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AR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毒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图片5"/>
          <p:cNvPicPr/>
          <p:nvPr/>
        </p:nvPicPr>
        <p:blipFill>
          <a:blip r:embed="rId1"/>
          <a:stretch/>
        </p:blipFill>
        <p:spPr>
          <a:xfrm>
            <a:off x="2087640" y="1460520"/>
            <a:ext cx="4065480" cy="48085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6607080" y="2031840"/>
            <a:ext cx="309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干旱的田龟裂为土块，土块可碎成细泥，细泥又碎为沙尘，沙尘还能继续分裂吗？沙尘随风飘荡？会消失得无影无踪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1892160" y="590400"/>
            <a:ext cx="3200400" cy="5814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物质的组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86040" y="131436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从微观世界到无垠的宇宙，存在各种各样的物质。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266920" y="2832120"/>
            <a:ext cx="8077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这些物质是由什么组成的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物质到底有什么奥秘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从古到今，人们一直探寻着这个问题的答案。为此我们的科学家做出了不懈的努力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01:24:27Z</dcterms:created>
  <dc:creator>物理备课大师【全免费】</dc:creator>
  <dc:description>物理备课大师【全免费】</dc:description>
  <dc:language>en-US</dc:language>
  <cp:lastModifiedBy>Windows 用户</cp:lastModifiedBy>
  <dcterms:modified xsi:type="dcterms:W3CDTF">2017-12-23T00:36:01Z</dcterms:modified>
  <cp:revision>3</cp:revision>
  <dc:subject/>
  <dc:title>物理备课大师【全免费】</dc:title>
</cp:coreProperties>
</file>