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24.gif" ContentType="image/gif"/>
  <Override PartName="/ppt/media/image3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6.wmf" ContentType="image/x-wmf"/>
  <Override PartName="/ppt/media/image14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40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43.png" ContentType="image/png"/>
  <Override PartName="/ppt/media/image11.jpeg" ContentType="image/jpeg"/>
  <Override PartName="/ppt/media/image39.jpeg" ContentType="image/jpeg"/>
  <Override PartName="/ppt/media/image8.png" ContentType="image/png"/>
  <Override PartName="/ppt/media/image6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7B4-ECC3-435C-BCC9-774ECBAE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4A5-AD91-4475-BD6B-1DB356C6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AB-71F0-42F3-BE15-D7CC23E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B43-B443-4104-897C-6D025E0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14E-3D21-49FC-A8E4-881A7771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D05-31BF-4070-A231-A3FDD09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62A-B781-42BA-86B0-30213DE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64B-A66C-4CEC-AE98-BFF489C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460-4E7B-4D1F-9150-A712076C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F3C-F11E-4653-B885-49C8912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C86-33F1-47F7-966E-916313A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9EA-7CCF-4AE3-B326-5B64B85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669-6106-46DD-8D03-11554382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ww.csi.ac.cn/ly/liuying/two.jpg&amp;imgrefurl=http://www.csi.ac.cn/ly/liuying/chtwo.htm&amp;h=336&amp;w=445&amp;sz=22&amp;hl=zh-CN&amp;start=4&amp;tbnid=AW4IcGJflXj_OM:&amp;tbnh=96&amp;tbnw=127&amp;prev=/images%3Fq%3D%25E6%25B0%25B4%25E6%25B3%25A2%26gbv%3D2%26complete%3D1%26hl%3Dzh-CN%26newwindow%3D1%26sa%3D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24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&#34649;&#34656;&#21644;&#38647;&#36798;.swf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24504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00800" y="5029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219320" y="685800"/>
            <a:ext cx="3960720" cy="936720"/>
            <a:chOff x="1219320" y="685800"/>
            <a:chExt cx="3960720" cy="936720"/>
          </a:xfrm>
        </p:grpSpPr>
        <p:sp>
          <p:nvSpPr>
            <p:cNvPr id="44" name=""/>
            <p:cNvSpPr/>
            <p:nvPr/>
          </p:nvSpPr>
          <p:spPr>
            <a:xfrm>
              <a:off x="1290600" y="757080"/>
              <a:ext cx="388944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miter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19320" y="6858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导入新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322360" y="2530440"/>
            <a:ext cx="449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仿宋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华文仿宋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想一想</a:t>
            </a:r>
            <a:r>
              <a:rPr b="1" lang="en-US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这个世界如果没有声音会怎么样</a:t>
            </a:r>
            <a:r>
              <a:rPr b="1" lang="en-US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华文仿宋"/>
                <a:ea typeface="华文行楷"/>
              </a:rPr>
              <a:t>、你对声音的利用知道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133720"/>
            <a:ext cx="20574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1337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蝙蝠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超声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导航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（回声定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276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受到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36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267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3623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声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1905120"/>
            <a:ext cx="2209680" cy="52056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710d"/>
                </a:solidFill>
                <a:latin typeface="Times New Roman"/>
                <a:ea typeface="楷体_GB2312"/>
              </a:rPr>
              <a:t>探测海深、海底暗礁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971800"/>
            <a:ext cx="2209680" cy="52056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710d"/>
                </a:solidFill>
                <a:latin typeface="Times New Roman"/>
                <a:ea typeface="楷体_GB2312"/>
              </a:rPr>
              <a:t>探测鱼群、潜艇位置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4038480"/>
            <a:ext cx="2590560" cy="52056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710d"/>
                </a:solidFill>
                <a:latin typeface="Times New Roman"/>
                <a:ea typeface="楷体_GB2312"/>
              </a:rPr>
              <a:t>绘水下数千米地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800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76920" y="3657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仿生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5105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1066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隶书"/>
              </a:rPr>
              <a:t>蝙蝠的这些“绝技”靠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04920"/>
            <a:ext cx="8305920" cy="304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5268600" cy="3954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384720" cy="229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762120"/>
            <a:ext cx="835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利用超声波可以制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倒车雷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15000" y="838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把脉（切脉）——利用声音诊病的最早的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0" r="36999" b="0"/>
          <a:stretch/>
        </p:blipFill>
        <p:spPr>
          <a:xfrm>
            <a:off x="1187280" y="380880"/>
            <a:ext cx="5518440" cy="56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43000" y="942840"/>
            <a:ext cx="4114800" cy="3248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1600" y="42354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声波诊断仪</a:t>
            </a:r>
            <a:r>
              <a:rPr b="1" lang="en-US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(B</a:t>
            </a: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</a:t>
            </a:r>
            <a:r>
              <a:rPr b="1" lang="en-US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)</a:t>
            </a: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检查、治疗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34120" y="3049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86320" y="4038480"/>
            <a:ext cx="33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胎儿的</a:t>
            </a:r>
            <a:r>
              <a:rPr b="1" lang="en-US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图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181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超声探查对人体没有伤害。利用超声波为孕妇做常规检查，可以确定胎儿的发育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295280"/>
            <a:ext cx="2432160" cy="1752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7621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波是一种波动，水波能传递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5328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85800" y="5943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57800" y="11430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那么声波能传递能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640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把一块石头扔进水里，可以看到一圈一圈的水波向四周散去，水面上的树叶也随之起伏。这说明石头 的能量通过水波传给了树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蜡烛的烛焰正对着播放音乐的扬声器，会看到什么现象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496080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59600" y="2133720"/>
            <a:ext cx="546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象：烛焰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0240" y="2057400"/>
            <a:ext cx="10335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结论：声音能传递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4495680" cy="37594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04920" y="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声波可以用来清洗钟表等精细的机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135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使用目的：物件的清洗、脱气、消毒、乳化、混匀、置换、提取。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使用部门：工矿企业，大专院校科研单位实验室；医院；电子车间流水线；钟表眼镜店、珠宝首饰店；家庭。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清洗物件：电子产品、机械五金配件、眼镜、首饰、钟表、钱币、水果等。</a:t>
            </a:r>
            <a:r>
              <a:rPr b="1" lang="en-US" sz="24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35049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572000" cy="3581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-73080" y="342000"/>
            <a:ext cx="93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外科医生可以利用超声振动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除去人体内的结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2124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要适应症：肾结石 输尿管结石 膀胱结石 尿道结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43800" cy="4676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95280" y="5486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声探伤仪——探测金属内部缺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隶书"/>
              </a:rPr>
              <a:t>各种各样声的利用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51814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声波破碎仪——对器械和食物消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471920" cy="326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下列例子是怎样利用声？声起到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33920" y="1295280"/>
            <a:ext cx="4295520" cy="232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65760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超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14800" y="4038480"/>
            <a:ext cx="3489480" cy="171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0" y="57913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洗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486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电动牙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1614600"/>
            <a:ext cx="3878280" cy="4475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24280" y="1614600"/>
            <a:ext cx="3897360" cy="4475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8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能使油和水混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162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53341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提高发芽率，缩短发芽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声可以传递信息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回声定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呐。可探测海洋深度、获得水中鱼群的信息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超声波获得人体内部疾病的信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声可以传播能量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超声波在液体中引起的强烈振动，来清洗钟表等精细的机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外科医生利用超声波振动除去人体内结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29000" y="304920"/>
            <a:ext cx="2664000" cy="936000"/>
            <a:chOff x="3429000" y="304920"/>
            <a:chExt cx="2664000" cy="936000"/>
          </a:xfrm>
        </p:grpSpPr>
        <p:sp>
          <p:nvSpPr>
            <p:cNvPr id="157" name=""/>
            <p:cNvSpPr/>
            <p:nvPr/>
          </p:nvSpPr>
          <p:spPr>
            <a:xfrm>
              <a:off x="3429000" y="375840"/>
              <a:ext cx="266400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miter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73360" y="304920"/>
              <a:ext cx="230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小 结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349360" y="23184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12800" y="5364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3124080" y="609480"/>
            <a:ext cx="3960720" cy="936720"/>
            <a:chOff x="3124080" y="609480"/>
            <a:chExt cx="3960720" cy="936720"/>
          </a:xfrm>
        </p:grpSpPr>
        <p:sp>
          <p:nvSpPr>
            <p:cNvPr id="162" name=""/>
            <p:cNvSpPr/>
            <p:nvPr/>
          </p:nvSpPr>
          <p:spPr>
            <a:xfrm>
              <a:off x="3195360" y="680760"/>
              <a:ext cx="388944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miter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4080" y="6094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巩固练习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14400" y="1905120"/>
            <a:ext cx="7543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远处隆隆的雷声预示一场即将来临的大雨；某同学听到校园的钟发出“铛铛铛”的声音时，就知道上课了。这些说明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实验表明：只有回声比原声晚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.1s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到达人耳，人才能将回声与原声区分开。这时人与障碍物之间的距离至少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声速取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40 m/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276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声音能传递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8769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219320"/>
            <a:ext cx="82296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个两端开口的纸筒一端蒙上橡皮膜，用橡皮筋扎紧。对着火焰敲橡皮膜，火焰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说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实例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声音可以传递信息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工人用铁锤敲击钢轨检查螺栓是否松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生用听诊器诊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牙医用超声波给病人洁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声呐探测海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523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跳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057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声能传递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1523880"/>
            <a:ext cx="8001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夜间出来活动从来不会撞到墙壁、树枝上，以下说法正确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的眼睛有夜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晚有月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嗅觉很好，可以嗅出前面是否有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发出超声波可以在物体上返回，根据回声就可以判定物体的位置和距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905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0720" y="175248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现象或做法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声可以传递能量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蝙蝠靠超声波捕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超声波消除肾结石患者的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声波清洗精细的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突然暴露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噪声环境中，鼓膜破裂出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2133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的音调和音色皆有，相比之下，主要是根据碗的音调不同来判断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3560" y="32497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65280" y="4052880"/>
            <a:ext cx="1482840" cy="530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0280" y="41162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340m/s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7920" y="41292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68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542880" cy="976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09680" y="4876920"/>
            <a:ext cx="65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海底深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8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447920" y="762120"/>
            <a:ext cx="1676160" cy="104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3810240" cy="2622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384720" cy="464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52578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点歌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声波吹灰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0" y="380880"/>
            <a:ext cx="3429000" cy="2492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14800" y="5791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家用声波清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节  声的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81532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09840" y="2514600"/>
            <a:ext cx="55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方正姚体"/>
              </a:rPr>
              <a:t>1.</a:t>
            </a: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方正姚体"/>
              </a:rPr>
              <a:t>声与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962520"/>
            <a:ext cx="54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  <a:ea typeface="方正姚体"/>
              </a:rPr>
              <a:t>2.</a:t>
            </a:r>
            <a:r>
              <a:rPr b="1" lang="zh-CN" sz="5400" spc="-1" strike="noStrike">
                <a:solidFill>
                  <a:srgbClr val="cc0066"/>
                </a:solidFill>
                <a:latin typeface="Times New Roman"/>
                <a:ea typeface="方正姚体"/>
              </a:rPr>
              <a:t>声与能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1933560" cy="17715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373040" y="476280"/>
            <a:ext cx="3960720" cy="936720"/>
            <a:chOff x="1373040" y="476280"/>
            <a:chExt cx="3960720" cy="936720"/>
          </a:xfrm>
        </p:grpSpPr>
        <p:sp>
          <p:nvSpPr>
            <p:cNvPr id="67" name=""/>
            <p:cNvSpPr/>
            <p:nvPr/>
          </p:nvSpPr>
          <p:spPr>
            <a:xfrm>
              <a:off x="1373040" y="547560"/>
              <a:ext cx="388944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miter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3040" y="47628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本节导航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50200">
            <a:off x="4333680" y="182736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7800" y="5006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大象之间怎样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/>
          </p:cNvPr>
          <p:cNvSpPr/>
          <p:nvPr/>
        </p:nvSpPr>
        <p:spPr>
          <a:xfrm>
            <a:off x="3352680" y="11430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雷达靠什么知道敌人飞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声能传递信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21339000">
            <a:off x="304920" y="1833480"/>
            <a:ext cx="3938400" cy="317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3808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声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981080" y="5562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848720" y="152280"/>
            <a:ext cx="950760" cy="1123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19320" y="3048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雷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火车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10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心脏跳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237168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21272400">
            <a:off x="1218960" y="15192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 rot="244200">
            <a:off x="4343040" y="3809520"/>
            <a:ext cx="3886200" cy="2662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08480" y="304920"/>
            <a:ext cx="1878120" cy="30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钟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cc0099"/>
                </a:solidFill>
                <a:latin typeface="华文中宋"/>
                <a:ea typeface="华文中宋"/>
              </a:rPr>
              <a:t>某人对着山谷对面的山峰喊了一声，</a:t>
            </a:r>
            <a:r>
              <a:rPr b="1" lang="en-US" sz="3200" spc="-1" strike="noStrike">
                <a:solidFill>
                  <a:srgbClr val="cc0099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cc0099"/>
                </a:solidFill>
                <a:latin typeface="华文中宋"/>
                <a:ea typeface="华文中宋"/>
              </a:rPr>
              <a:t>秒后听到了回声，求人与山峰之间的距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3048120"/>
            <a:ext cx="1447560" cy="52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0120" y="304956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40m/s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00880" y="2819520"/>
            <a:ext cx="495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3280" y="30495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876920"/>
            <a:ext cx="6324480" cy="64260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隶书"/>
              </a:rPr>
              <a:t>人们根据回声的原理，创造了很多发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77120" y="3808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4572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蝠通常只在夜间出来活动，但它们从来不会撞到墙壁、树枝上，并且能以很高的精度确认目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47920" y="6019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08:57:36Z</dcterms:created>
  <dc:creator>河北远东博克文化传播有限公司</dc:creator>
  <dc:description/>
  <dc:language>en-US</dc:language>
  <cp:lastModifiedBy>yang</cp:lastModifiedBy>
  <dcterms:modified xsi:type="dcterms:W3CDTF">2014-04-18T06:36:11Z</dcterms:modified>
  <cp:revision>115</cp:revision>
  <dc:subject/>
  <dc:title>五.声的利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